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56C-C4ED-40FF-AD5C-C1368FC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853-5660-409A-8D3B-968D1F07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B4A8A-ACEE-4475-BD9F-8F115C3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12198-7947-4D69-A4BA-EA7ED23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02718-5961-40D3-B9FF-B30A9DD7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05A7-8903-40D8-A6BC-DC0446C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2160-1377-45F4-A1FA-171A5F3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1F37-41CC-4E9E-976E-A8A297F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BE5DD-EC7E-4C0B-9B19-7873471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44D24-15FD-4F6B-89A6-EA3656AD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05419-4443-4BAD-A297-B20F966B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83617-324E-4199-A8CA-3A6EC944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CD4-B912-4738-A03B-0E489522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D18D5-6B90-4A1D-990F-9BCBEDD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2C893-6EDF-4AD2-9469-E025FA0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14B28-78FC-4ABA-863B-78252E3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F185-15BE-4E4D-B39A-E6DF222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156EF-C684-4F9C-9AFE-B7CB7386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401C-0D09-4A7A-BF77-FEAFDA1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3FBC3-243F-4302-BCEC-614AA53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E195C-2905-4EF3-AE84-AFF990D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EB354-1ECC-4505-A3FD-CF7B9144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14406-7144-4BE5-B63A-91FDB263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946-87F2-40E2-B856-64C659E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67F85-AEAD-4581-98C0-9C3C54A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E2158-D16C-42A3-9AC8-BF24C7BC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A15E2-FD5A-4EEC-A598-3EDC65B1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53D1-B210-4327-905E-45106B5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7FA7E-CFCE-4F48-BFC6-AD3B2259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9090D-7EC0-4C2D-B11C-69C3FD16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B4EE5-5EC2-4A38-9129-D019248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F404-E179-4404-857F-D4E11C3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11E0E-E93C-4CA6-9CAA-416890D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E2930-22CC-405D-8606-A76765B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F00-96CD-42EE-BB90-6524A57C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4275-872A-4501-83E7-B10E34B0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A73A-42F1-41C7-AEB7-C1A6D8F6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35690-F429-4B6E-BD7A-9AC53D93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D434D-328C-40EC-AC4A-83BECCD4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68F45-DA9C-44DF-9583-90B5ED56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A655C-237F-4829-AB82-3C20DC3F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2745-9247-43CD-858B-B9C7AAA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A8F8F-42E6-45F3-8355-77F2DCB3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7AF83-1205-409F-AAEF-DFBEB61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D3186-7676-4B97-BE8E-0B5C876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037-DF97-4178-937C-7BFF504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952D1-4D4D-4720-8ED8-18202BC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605C4-38CD-4FBD-ACBA-5F26B30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4C09D-581E-41A2-BC35-51229EC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81C19-9A20-4B3D-B71C-3F5FDD1A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CD073-0CCD-43AB-A027-FF670244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95E35-83E3-4CA4-930E-5A6F771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D326E-E920-4B7A-9315-22E3A27B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660CD-A3C8-494C-BB56-D82D327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83712-42A1-4FC4-A6D8-228FA912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75954-544D-4BD6-AEF9-3FAD7B8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FA66-5E31-4D24-A26F-2BDF375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243E0-CC74-44C3-9978-09D3F9B5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39E2D-296A-464F-AEAC-6DF8CB2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913F2-2080-4A5E-A149-99FAB5D0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C890B-8FE4-420F-8940-91B1DC9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B5F74-45B6-4538-8D53-1355E1B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92687-2593-4E7A-A265-3C42D033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D0064-0A9C-4B25-9755-77F7CE49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01D18-EED3-414D-A0A5-C2C1F674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C0671-2DA6-4983-81B0-B7D817B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03C88-26AB-4F84-ACF0-E3FB34C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52DE-E555-4645-BD32-3FAA273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58AD5-9D1F-4108-B0BF-58338B80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82541-812B-40AA-ACBF-917CBF8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FB7E4-4866-4F61-AEDF-B0B9FB5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0E336-D829-4D49-8596-5D8448BD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4B053-93B6-4BD4-A0A5-A15CFAE7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31B2F-6987-40CB-AA90-A477108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9C2C2-93A3-4416-B243-E233661F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C4FB7-6AFF-4E52-B9AB-6138A94B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C3853-A7CC-4547-847B-4376DCD9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F19E1-4AC7-4CCF-A8C1-C53C94D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447B-E2BD-4B5B-A5DA-1EE3CC6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84553-34C5-4F7C-B3D0-0FF03B58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9A39F-62CB-4DBF-A4F8-D6C6B98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36A67-BA23-4FFB-AF5E-CAC25CC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CAE86-D753-4404-AC54-6E458BFC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E2835-5F55-4D01-9775-EE6E060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8CB83-C47D-4DE2-A79D-64CB108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0D9F7-3D41-4DC2-ABE5-EEBE6971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EE8CA-35C2-4189-8764-3AA0933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989F7-8988-4350-81B5-3D33499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9E268-CEDF-47CD-AAF6-378DA5A5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BB8-854A-4A89-AA9A-4CEC2DE3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64758-BBCC-4C4A-A22D-2480E50A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E2390-4D11-44E2-8BC2-D2A8DD68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F4962-360D-4AB5-9721-EF4C937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5BD6A-40F2-47A0-A785-3510AD5D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AE6D6-B528-4158-9930-8BB4D25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AA6CE-C231-4E89-A954-331B766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98F4B-3DCE-4BD6-BC8A-3AA0D4EC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B98BD-F735-4CF9-8F23-2C0C458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749B3-160A-457F-AC45-29A078A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66A37-627A-4BD0-B056-8233500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7F28-A9E6-4EBE-9FE1-58BE758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7CFD4-4713-46FF-B660-EFDE166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80D63-3066-4886-BA6F-346B3651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7FA78-C5CB-46C7-83A0-7E64DA10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65856-DD65-4FAA-B395-43C13DA0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7223E-5325-47C5-AC44-7AA515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53E63-943C-42E9-B34C-C7AE2EF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5360A-7888-49B5-8573-AE9300F1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ED4A9-6AF8-443D-867B-77E15B0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40FBA-E90A-41CA-B8D1-D2494A6E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6EC1A-BA65-4B05-8F56-4A8F10F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942-E625-4FE5-A490-40E94FF1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55D-2573-4455-899E-B3E61BC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FF9BD-B127-4649-9A58-8457197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2EDB4-05DC-49B2-B042-81F04799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9D052-A4F7-44DA-8A53-1CDCC4A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DB647-1EFF-471B-8235-0278E1B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8A6EB-405C-4084-96B4-040AEF3F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F918F-CA67-47C6-A9D9-4203E578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EB2E9-A9DE-4F8A-A113-0C4DDB81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63A8E-B8E9-4081-851A-E4AEF23B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E3CEF-A1F0-40E2-893D-B446EAF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B7A9E-4EF7-40BB-AB7A-2D605D7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D5B-DDFC-4845-B2B6-FCDAE8F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5B0D4-B893-4BC5-BA0D-519BB766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D2400-3FB5-4DB9-B524-367A3DA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92C07-597C-42E9-A156-B148B28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71437-3CCC-4B8D-B129-622050D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A51A2-C2E1-45FD-A767-940C9DA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C8223-E16B-44E8-886F-520F08E4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BEF04-77FE-4A29-8211-C1347C1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F1C7E-4715-4113-98EF-4F5B443B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600C6-5A5D-4C21-8134-ABD190C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E5D17-9C23-413C-AE93-92BD651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B50B-8043-4161-9B54-595344A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4A71F-00A1-40A0-BD5C-9E0EB6F4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00A18-E01E-4E6B-AC8D-B7E1496D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52147-7B87-491D-8140-2C9157C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B801C-008E-41F3-89DE-F433816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0B780-B9B7-47D9-98B3-29E2572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68A66-66F5-469A-90EC-74B4B5A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1EA4F1-9F64-40FB-904E-C65D75E6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19963-3B60-4798-A822-1A9891D1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B565D-C732-4CF9-944E-EC29F0BE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00389-2579-4DC8-BF9B-1B43951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2D1-E1FC-4B8A-9B87-AFDA10AC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E0AE6-AAB7-49C4-AACA-B51C30A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3D889-3EAD-45BB-A191-E5A427B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39B32-ADEA-45AC-9BB9-7E43A08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379F8-5F83-496D-B911-2EAFCA9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31600-578F-423D-9FE9-70407A6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46A02-0FBE-48B8-9EFE-F4329AE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BAE0C-17F9-4D05-B865-ADB73C2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F5B40-50C6-4DF3-8773-6EA87BD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07801-1475-46A2-97E2-031FD9E9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2084E-5E57-433A-ACC1-7D5F879C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5294-F732-4865-A0A2-78EA9DBE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33623-F6BE-4F7C-B5C0-76DA02F0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B3F3B-C8B6-4703-BF8C-69E890F3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A5E667-7497-4791-8770-AEE7627F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07398-8323-4029-B199-599CF71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F174F-03F9-474D-8920-144922C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058D0-139D-43DE-B8C2-CA25C46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22EFF-9E7D-4DB9-BF6C-744977A9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A311F-D108-4089-A3D5-CDAB2A0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03E8B-793B-4DE2-94FD-20CE79E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71B66-E910-490C-BE52-81A37A7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3725-F8F1-4677-86C5-1180F031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E41A7-A338-4E51-8487-8C8BB7B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6E08F-9B9A-40D0-A34E-F8CCC23B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4B2AC-EF78-4937-B9A0-D084A878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6766-6C89-4506-BD59-D8CA94FC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5C36-F3EC-4ED4-AD98-8CB2CAAE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81D-A166-4FB3-9351-4224894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AF0E-20C0-4580-A561-406606CA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38D-4054-4FE9-8572-FBD0D96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A6A4-FE9A-444F-8797-EF548F2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1CCE-5470-4CF0-BA02-BCC9FC4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D6C0-CB4C-4660-913D-EDCC4C9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9B35-E08F-4F30-A2F4-17C2987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51F1-AC6F-4371-8D05-B2D44D1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B027-254D-4D59-BBC3-351ADC8C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1F1E-6993-4B0A-816F-835CEF5B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8DEA-E7B9-4458-8DC2-5845A4F3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8F1C-3B8D-4C4B-93F3-10326BAC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4F19-57DA-4E27-B2DD-AE5E967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8E2-A5DB-452D-A59B-90BC1F22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E418-8F33-43AD-9C22-46E47CC4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D2A0-1670-47F1-884A-282E5598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A5C3-598E-4A74-9D78-38F007B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4A4A-5A6C-4969-BB12-938B142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EABE-A06C-404A-9A37-FBB655B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A4B6-D3D9-4F00-AE78-93D8DAE2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18B8-9E59-4C46-AF54-93E074F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1550-A40F-4529-990C-2F11018B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1481-38C3-489A-8ED8-61D182DC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C67D-4BB1-4EB2-AC5C-5CDAE21E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272-4633-4B26-8608-44DC4020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2E5D-83A1-4D68-90CC-49798D7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7381-8985-481F-9E33-CA6FD57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E5B5-3B47-42F7-B7DF-C494C9CA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597E-95B6-4435-A8FF-F6894AA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FF98-B3BE-422C-BE1C-998865FA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D972-5995-461D-B519-915BDD1B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83673-9D91-49B3-9610-D1519C1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CB7F-2584-44DB-BB90-DCD0264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6506-6BF4-4E1A-8084-812B709D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A78D-6A34-4A39-A5B5-0B50F12C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83B-BBD9-476B-AC5B-86C5572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5DD6-3470-427C-B6E8-E49D28CF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13C5-F631-4E45-B091-B39765E0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8B10C-74BC-42B8-B2CE-4C7B7FED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19DC-AF77-4F62-B452-EF55FA9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55A5-69A7-41E2-9DB9-83F9D974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7E67-249D-4618-9999-51EA67D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0716D-720D-4450-986B-3A5BCD9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04D9-BAF1-4B81-8F0C-2F12853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752F-BF14-4746-BABA-C5FDC35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418D-B215-49CD-B233-4C149791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032-A124-4928-AEC0-3B2D86AA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0760-93D1-42CA-90A4-1515FDCE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B72FC-F565-4D60-901E-8E9CE554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AE49-4631-4AFC-A6EB-B8E78532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10939-B901-4EEF-892F-DBFEC5AD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5EB8-96C1-4D0A-9D6E-DF7820BE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7B98-19D2-4FBA-8DC3-BA47A50E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C4C5-C16D-4286-8EBB-0AC7BA8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411D-6542-44D2-B324-A763C215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A0569-ED36-4095-815C-2EBCB3F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F774-2BD0-44D8-8FAC-36A40BA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50C-01FF-417E-97E9-E0FC1AF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8DF07-CC74-48B3-AA6A-DAAC921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6710-739B-478C-96E6-3087C46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DFE3-9629-4741-8595-E73C25D2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29109-0A66-42F6-93C5-1E0ABB5E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EBC6-20DF-44BB-A31B-B5372A68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6B55-12C3-4462-B2D6-E3450F24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803C6-6AC6-4B50-82B4-A381B68B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40E2-4552-4416-95B5-E2EB8D89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B0B44-ADAF-48C5-98B7-0850CC8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858E-27B6-466E-9EE9-70E1EFE7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854-EB92-4B67-99FA-0265764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3C58-C99C-4AD5-99F8-5FE769C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EFFF-8F5B-48B8-A80E-44DE22C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8FE7-B894-4612-8DCD-69D0069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B2CCF-CD44-4F0E-89D7-5ABD08CE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37DA-189E-4F71-8E25-36DCD532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458F5-8B23-47C6-9217-5A4764AF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FF33-7363-4771-AD6D-B3512B2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49379-1FAA-491E-97A0-EC1BE0AB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4F047-49CB-49F4-BEBD-056100DB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DFF4-B2B6-478C-8CFF-E4594B6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DC5-36EA-4B63-AEF1-0E867973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BAFC-3388-4EB5-BAE1-DB60BB922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C8F-7C55-4E10-AE5B-E752FC041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E06-2B55-4331-931C-C5B478C83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C7B-ED7A-4BD4-94E0-ADC0BEB99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F7D-D3C2-4221-A740-6B4ADD7A2D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E6E8-F50C-48F1-A25C-AF65CA21A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8E4-C699-4BA5-80E6-6A7F7ED48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3C4-F9E5-4C0E-99FB-1270BD50A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F1A-E89E-4EC2-AAD0-352F04C21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F7FA-9CEE-4AB9-AA8F-EC4A460FF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A7E-0B01-42E7-8F01-AA05DC9BEF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9E63-E806-44BF-9C47-3FB553D2E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347-D9BB-4754-B1ED-F5FD1730F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375-CBE5-4522-AA18-484246C7C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7E2-E7D0-4242-8EEF-AA3333A36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5B4-F4AD-450C-AC90-DC0EAA4D3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6E2-CA20-41B8-8FA2-B15419B404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02B-2751-454A-8E56-985F202CE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D50-F319-4350-A9A7-439B555C4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657-AA0D-4111-A994-62547E907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D6E-575C-4255-9B5C-93FBAC105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8FE-03F4-4BC5-B513-8E8C2281A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57D-6091-4A54-B006-6D6562254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17B-C4D4-4436-A875-EACD02BDC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C27-1F1C-41CD-89F5-753B684B3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B4B9-CF01-42D6-B6D9-226166751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A8C6-DB40-4AF3-849F-C3DF0690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CC2-B77E-4EB0-9BE1-9CA7AFA3E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D1C4-225D-4776-8852-20962434B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500-B547-409E-93C2-0D60B0F8F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9CB-6620-49AC-81DD-5AA6BF093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000-0F01-4632-A041-119BFCA9E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9591-9049-433D-A67B-CD57CC7B6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8068-D6AC-4B8B-996B-74C505F00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0AC-002E-4CC5-B6E1-C7DE2735A2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E800-A532-4B59-8F2F-276B1157D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690-2B1A-48C9-B161-3E58058F6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914-9E7B-4A52-99CD-450A06B53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CF96-D3D5-4BF9-92AA-57FA24FC2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0040" y="3022560"/>
            <a:ext cx="86839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666720" y="1409760"/>
            <a:ext cx="7810560" cy="4038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763640" y="27511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720800" y="406224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81000" y="1386000"/>
            <a:ext cx="8980560" cy="4086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1476360" y="2881440"/>
            <a:ext cx="244800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3240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6804000" y="488304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2" descr=""/>
          <p:cNvPicPr/>
          <p:nvPr/>
        </p:nvPicPr>
        <p:blipFill>
          <a:blip r:embed="rId1"/>
          <a:stretch/>
        </p:blipFill>
        <p:spPr>
          <a:xfrm>
            <a:off x="511200" y="863640"/>
            <a:ext cx="8342280" cy="5913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1332000" y="2147760"/>
            <a:ext cx="287964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7451640" y="21337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1116000" y="41353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3348000" y="4105440"/>
            <a:ext cx="1368360" cy="448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1042920" y="612144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2843280" y="6135840"/>
            <a:ext cx="259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47600" y="1257480"/>
            <a:ext cx="884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047600" y="1843200"/>
            <a:ext cx="7048800" cy="3171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1403280" y="4508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14480" y="1052640"/>
            <a:ext cx="8915400" cy="4752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96720" y="841320"/>
            <a:ext cx="8352000" cy="5884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566640" y="2519280"/>
            <a:ext cx="8008920" cy="1819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57240" y="1123920"/>
            <a:ext cx="9029520" cy="46101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5003640" y="229068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403280" y="29527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364000" y="423540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258920" y="488304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419040" y="774720"/>
            <a:ext cx="8305920" cy="5772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3419640" y="1859040"/>
            <a:ext cx="201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1692360" y="3803760"/>
            <a:ext cx="13669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2411280" y="5430960"/>
            <a:ext cx="3097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23880" y="971640"/>
            <a:ext cx="7894800" cy="4914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2627280" y="327024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9:1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